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C447-AD6D-4519-8971-6BA4E33988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a Rocks and Met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2 Extracting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1a Rocks and Metal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2 Extracting 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an some metals be extracted using carbon when some can’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we use to extract i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a blast furnace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hemical reactions take pl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utcom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can some metals be extracted using carbon when some can’t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we use to extract iron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es a blast furnace work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hemical reactions take place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xtraction of Iron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traction of Ir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stand which metals can be extracted using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able to describe how a blast furnac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stand which metals can be extracted using carb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able to describe how a blast furnace work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understa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would you rate yourself when thinking about extraction of met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understand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rate yourself when thinking about extraction of metals?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rb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ing re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above carbon must be extracted using electr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 below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extracted from the ore by reduction using carbon, coke, or charco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and silver often do not need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extracted. They occur n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ctivity of a metal determines the method of ext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activit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r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ass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d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lc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gnes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uminiu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c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pp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arbon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reasing reactivity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s above carbon must be extracted using electrolysis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tals below carb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extracted from the ore by reduction using carbon, coke, or charcoal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ld and silver often do not need to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extracted. They occur native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activity of a metal determines the method of extraction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– 2nd most common metal in the Earth’s c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as haema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(III) oxide (Fe2O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obtained using a blast furn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ag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– 2nd most common metal in the Earth’s crust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und as haematit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(III) oxide (Fe2O3)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nd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be obtained using a blast furn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uction of iron 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+ oxygen 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dioxide + carbon  carbon mon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rbon monoxide + iron oxide   iron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duction of iron or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+ oxygen 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+ carbon  carbon mon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monoxide + iron oxide   iron +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moving impu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carbonate  calcium oxide +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lcium oxide + silicon dioxide  calcium silic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is is called S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moving impurit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cium carbonate  calcium oxide + carbon dioxid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lcium oxide + silicon dioxide  calcium silicate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is is called SLA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of the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on is not found naturally, but in Iron 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extract iron form iron ore using a Blast Furn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chemistry we can produce pure i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estone (CaCO3) is used to remove impur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ke/Carbon gives us the high temperature we need for the reactions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mmary of the proces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ron is not found naturally, but in Iron Or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can extract iron form iron ore using a Blast Furn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chemistry we can produce pure iron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mestone (CaCO3) is used to remove impuritie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ke/Carbon gives us the high temperature we need for the reactions to take plac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42FFF-CF24-4689-B574-67962D1A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F6C7E-5EBB-4C3E-B0A7-635F0515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98118-2508-4C74-880D-0C43BFF4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4042D-B9DC-45C5-8A1A-292DFB86D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DD0B-A0CA-4357-8155-29978920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5851-7DDF-4B4D-A625-A802A97B4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7751-3E12-420A-BF3F-D2753480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99CA-5D4B-4D04-83BA-BBA3FD9A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6850-4DD0-4C38-919E-49302CC0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0B4A-3D2F-4CF1-AD8B-8534E171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0F9D-D8F6-4557-BEB4-B61CA6A1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611D9-DE18-4BCD-8087-311D11D2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8C698-29E0-493B-9529-E873557F1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3A42-9BB9-451B-9C4D-4023C3FB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9916-993F-4855-88BB-08D3A2972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EB83-54B1-4124-AA4F-E18FB7B06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D1441-EE52-404E-8F6E-39287341D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DEFF0-698C-4549-80CB-B2077B68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DD768-3154-4287-9D6F-35312BB8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3C785-C47A-4C2F-A0C3-EFE673AF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DC64B-59C1-4CAE-A377-42755AC5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08A68-095C-465A-81A2-B0699512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855FC-9C83-4C68-96D9-3EBA5DA0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855EA-8FFF-43AB-9767-2D213125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F4C7-2105-4A37-9048-56DC44BFDBD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3828-144B-4284-ACE0-4084813482D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e5e5ff"/>
                </a:solidFill>
                <a:latin typeface="Garamond"/>
              </a:rPr>
              <a:t>C1a Rocks and Metal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2.2 Extracting I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Learning outcom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y can some metals be extracted using carbon when some can’t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at do we use to extract iron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How does a blast furnace work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hat chemical reactions take pla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Extraction of Iron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96920" y="28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ShockwaveFlash1"/>
          <p:cNvGraphicFramePr/>
          <p:nvPr/>
        </p:nvGraphicFramePr>
        <p:xfrm>
          <a:off x="762120" y="1066680"/>
          <a:ext cx="76215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066680"/>
                    <a:ext cx="7621560" cy="51055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Learning objecti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nderstand which metals can be extracted using carb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Be able to describe how a blast furnace wor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What do you understand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23590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2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        2       3       4       5       6       7       8       9       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475e"/>
                        </a:gs>
                        <a:gs pos="100000">
                          <a:srgbClr val="0099cc"/>
                        </a:gs>
                      </a:gsLst>
                      <a:lin ang="0"/>
                    </a:gradFill>
                  </a:tcPr>
                </a:tc>
              </a:tr>
              <a:tr h="106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 know nothing                                            I am an exper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99cc"/>
                        </a:gs>
                        <a:gs pos="100000">
                          <a:srgbClr val="00475e"/>
                        </a:gs>
                      </a:gsLst>
                      <a:lin ang="0"/>
                    </a:gradFill>
                  </a:tcPr>
                </a:tc>
              </a:tr>
            </a:tbl>
          </a:graphicData>
        </a:graphic>
      </p:graphicFrame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How would you rate yourself when thinking about extraction of metals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Line 81"/>
          <p:cNvSpPr/>
          <p:nvPr/>
        </p:nvSpPr>
        <p:spPr>
          <a:xfrm>
            <a:off x="2843280" y="3357720"/>
            <a:ext cx="3600360" cy="0"/>
          </a:xfrm>
          <a:prstGeom prst="line">
            <a:avLst/>
          </a:prstGeom>
          <a:ln w="604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3"/>
          <p:cNvSpPr/>
          <p:nvPr/>
        </p:nvSpPr>
        <p:spPr>
          <a:xfrm>
            <a:off x="1611360" y="863640"/>
            <a:ext cx="2179440" cy="54165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ccff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552680" y="3486240"/>
            <a:ext cx="5610240" cy="4046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619280" y="907920"/>
            <a:ext cx="217656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The Reactivit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eri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720800" y="1643040"/>
            <a:ext cx="13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potass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735200" y="2031840"/>
            <a:ext cx="112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od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1778760" y="235584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alc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1763640" y="2708280"/>
            <a:ext cx="162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magnes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752120" y="307800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aluminiu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953360" y="3927600"/>
            <a:ext cx="63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zin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939320" y="427032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ir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1863720" y="497988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copp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1983960" y="571824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gol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60480" y="347040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(carbon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AutoShape 16"/>
          <p:cNvSpPr/>
          <p:nvPr/>
        </p:nvSpPr>
        <p:spPr>
          <a:xfrm flipV="1">
            <a:off x="746280" y="1788480"/>
            <a:ext cx="691920" cy="4446360"/>
          </a:xfrm>
          <a:prstGeom prst="downArrow">
            <a:avLst>
              <a:gd name="adj1" fmla="val 71565"/>
              <a:gd name="adj2" fmla="val 160653"/>
            </a:avLst>
          </a:pr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creasing reactivit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17"/>
          <p:cNvSpPr/>
          <p:nvPr/>
        </p:nvSpPr>
        <p:spPr>
          <a:xfrm>
            <a:off x="3962520" y="1279440"/>
            <a:ext cx="669960" cy="2121120"/>
          </a:xfrm>
          <a:custGeom>
            <a:avLst/>
            <a:gdLst>
              <a:gd name="textAreaLeft" fmla="*/ 0 w 669960"/>
              <a:gd name="textAreaRight" fmla="*/ 241920 w 669960"/>
              <a:gd name="textAreaTop" fmla="*/ 55080 h 2121120"/>
              <a:gd name="textAreaBottom" fmla="*/ 2066040 h 212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AutoShape 18"/>
          <p:cNvSpPr/>
          <p:nvPr/>
        </p:nvSpPr>
        <p:spPr>
          <a:xfrm>
            <a:off x="4005360" y="4057560"/>
            <a:ext cx="669960" cy="1195560"/>
          </a:xfrm>
          <a:custGeom>
            <a:avLst/>
            <a:gdLst>
              <a:gd name="textAreaLeft" fmla="*/ 0 w 669960"/>
              <a:gd name="textAreaRight" fmla="*/ 241920 w 669960"/>
              <a:gd name="textAreaTop" fmla="*/ 30960 h 1195560"/>
              <a:gd name="textAreaBottom" fmla="*/ 1164600 h 11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4632480" y="2216160"/>
            <a:ext cx="2931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als above carbon must be extracted using electrolysi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879800" y="4087800"/>
            <a:ext cx="3792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etals below carbon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an be extracted from the ore by reduction using carbon, coke, or charco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AutoShape 21"/>
          <p:cNvSpPr/>
          <p:nvPr/>
        </p:nvSpPr>
        <p:spPr>
          <a:xfrm>
            <a:off x="3948120" y="5567400"/>
            <a:ext cx="669960" cy="504720"/>
          </a:xfrm>
          <a:custGeom>
            <a:avLst/>
            <a:gdLst>
              <a:gd name="textAreaLeft" fmla="*/ 0 w 669960"/>
              <a:gd name="textAreaRight" fmla="*/ 241920 w 66996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4790880" y="5443560"/>
            <a:ext cx="428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old and silver often do not need to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e extracted. They occur nativ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182520" y="67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24"/>
          <p:cNvSpPr/>
          <p:nvPr/>
        </p:nvSpPr>
        <p:spPr>
          <a:xfrm>
            <a:off x="4719600" y="685800"/>
            <a:ext cx="3395880" cy="11912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reactivity of a metal determines the method of extrac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1933560" y="4641840"/>
            <a:ext cx="74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lea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1943640" y="5376960"/>
            <a:ext cx="7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Arial"/>
              </a:rPr>
              <a:t>silver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Iron ag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ron – 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 most common metal in the Earth’s cru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Found as haemati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Iron (III) oxide (Fe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Garamond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O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Garamond"/>
              </a:rPr>
              <a:t>San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an be obtained using a blast furn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107280"/>
            <a:ext cx="75247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48" name="ShockwaveFlash1"/>
          <p:cNvGraphicFramePr/>
          <p:nvPr/>
        </p:nvGraphicFramePr>
        <p:xfrm>
          <a:off x="0" y="0"/>
          <a:ext cx="914400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65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Reduction of iron o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706320" y="4575240"/>
            <a:ext cx="7893000" cy="5684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168560" y="3044880"/>
            <a:ext cx="6580080" cy="5983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154160" y="1601640"/>
            <a:ext cx="6594480" cy="684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1844640" y="1606680"/>
            <a:ext cx="48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+ oxygen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324080" y="3116160"/>
            <a:ext cx="62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dioxide + carbon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rbon mon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88760" y="4583160"/>
            <a:ext cx="76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rbon monoxide + iron oxide 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ron +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AutoShape 9"/>
          <p:cNvSpPr/>
          <p:nvPr/>
        </p:nvSpPr>
        <p:spPr>
          <a:xfrm>
            <a:off x="4211640" y="2349360"/>
            <a:ext cx="431640" cy="574920"/>
          </a:xfrm>
          <a:prstGeom prst="downArrow">
            <a:avLst>
              <a:gd name="adj1" fmla="val 50000"/>
              <a:gd name="adj2" fmla="val 3329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AutoShape 10"/>
          <p:cNvSpPr/>
          <p:nvPr/>
        </p:nvSpPr>
        <p:spPr>
          <a:xfrm>
            <a:off x="4211640" y="3789360"/>
            <a:ext cx="431640" cy="574560"/>
          </a:xfrm>
          <a:prstGeom prst="downArrow">
            <a:avLst>
              <a:gd name="adj1" fmla="val 50000"/>
              <a:gd name="adj2" fmla="val 3327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Removing impurit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620640" y="1890720"/>
            <a:ext cx="7935840" cy="6811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49440" y="3809880"/>
            <a:ext cx="7921440" cy="69084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786960" y="1982880"/>
            <a:ext cx="73191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cium carbonate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lcium oxide + carbon dioxi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991440" y="3902040"/>
            <a:ext cx="68925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cium oxide + silicon dioxide </a:t>
            </a:r>
            <a:r>
              <a:rPr b="0" lang="en-GB" sz="24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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alcium silicat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651920" y="5429160"/>
            <a:ext cx="2837160" cy="459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called SLA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Line 10"/>
          <p:cNvSpPr/>
          <p:nvPr/>
        </p:nvSpPr>
        <p:spPr>
          <a:xfrm flipH="1" flipV="1">
            <a:off x="5214960" y="4571640"/>
            <a:ext cx="620640" cy="67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5e5ff"/>
                </a:solidFill>
                <a:latin typeface="Garamond"/>
              </a:rPr>
              <a:t>Summary of the proces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Iron is not found naturally, but in Iron 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We can extract iron form iron ore using a Blast Furn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Using chemistry we can produce pure ir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Limestone (CaCO</a:t>
            </a:r>
            <a:r>
              <a:rPr b="0" lang="en-GB" sz="3200" spc="-1" strike="noStrike" baseline="-25000">
                <a:solidFill>
                  <a:srgbClr val="ffffff"/>
                </a:solidFill>
                <a:latin typeface="Garamond"/>
              </a:rPr>
              <a:t>3</a:t>
            </a: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) is used to remove impur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-5299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Garamond"/>
              </a:rPr>
              <a:t>Coke/Carbon gives us the high temperature we need for the reactions to take pl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299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5:45:16Z</dcterms:created>
  <dc:creator>St Lukes Science and Sports College</dc:creator>
  <dc:description/>
  <dc:language>en-US</dc:language>
  <cp:lastModifiedBy>LEGION</cp:lastModifiedBy>
  <dcterms:modified xsi:type="dcterms:W3CDTF">2017-01-26T09:39:45Z</dcterms:modified>
  <cp:revision>6</cp:revision>
  <dc:subject/>
  <dc:title>C1a Rocks and Metals</dc:title>
</cp:coreProperties>
</file>